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4.wmf" ContentType="image/x-wmf"/>
  <Override PartName="/ppt/media/image1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media/image10.jpeg" ContentType="image/jpeg"/>
  <Override PartName="/ppt/media/image5.png" ContentType="image/png"/>
  <Override PartName="/ppt/media/image13.wmf" ContentType="image/x-wmf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A6D6B-C25B-4BE1-B1CD-DE2FB6CF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14862-A64E-46A5-8264-0C399B2A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DC8EC-F2BA-4609-B991-255BF03D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D9B3C-3E55-40F6-9796-6FA750FF4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6C40-C39B-4057-B9CA-50886AE3D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4940-507A-40CB-8671-09DC135F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A0B6-E2EB-4AFD-8DCE-927F77B2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2F0C-D720-4B66-86A6-ADE11417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660B-A0C2-4850-99E0-B730530B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DFB4-14BE-4496-89C5-6013AD84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AB0E-FA15-4004-BEC0-3A69B344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9D7C8-6BDE-4C3A-9A53-7E276602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9966-AAE0-40DC-900F-CDCD1EBC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E9F5-FBD3-4C89-B7CC-60D17358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996C-1724-4D3E-AAEB-77C8267D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7FD4-8DC4-4C03-B994-70C89CB5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4F95-5943-49FC-A53E-DD7C1D8E7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D4C01-24B0-4392-A31A-4FCB2B43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E8A61-EDC4-4539-B7C8-1B558B20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70EC6-BD28-49B0-8007-310D9D52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49F6B-022D-4F9B-B64A-04A05284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907E4-A8F0-4293-B1FD-2BD69A3A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54448-E38F-47D9-9031-EB100FAC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A03AE-32D6-465A-B4D5-F99E23EE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5FA3-E9EC-48F4-9C94-ED77EA37338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6377-7B71-4501-AF1E-2B2727178D4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523880" y="2951280"/>
            <a:ext cx="60962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Dana Rutkowski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  <p:transition spd="slow" advTm="3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124080" y="609480"/>
            <a:ext cx="281952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ncu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3057480" cy="2284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029200" y="3505320"/>
            <a:ext cx="3276720" cy="2447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85800" y="4724280"/>
            <a:ext cx="3200400" cy="676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 rot="19918800">
            <a:off x="5562720" y="1904760"/>
            <a:ext cx="2590560" cy="547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905120" y="304920"/>
            <a:ext cx="55245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irls' Vacati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591000" cy="2682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3581280" cy="2674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28600" y="1371600"/>
            <a:ext cx="1209600" cy="1209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66680" y="533412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Katie Romanoski, Jen Malukas, Michelle O’Conell, and my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7848720" y="228600"/>
            <a:ext cx="1057320" cy="1057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8086680" y="5800680"/>
            <a:ext cx="1057320" cy="1057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4114800" y="4191120"/>
            <a:ext cx="1057320" cy="10573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3962160" cy="2959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0" y="1792440"/>
            <a:ext cx="3971880" cy="2968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 rot="20437800">
            <a:off x="304920" y="5146560"/>
            <a:ext cx="931680" cy="1711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2286000" y="457200"/>
            <a:ext cx="47242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nior Frog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 rot="1299600">
            <a:off x="7848720" y="5181480"/>
            <a:ext cx="912600" cy="16765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2209680" y="457200"/>
            <a:ext cx="49914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Co Bong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124080" y="403848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209680" y="1447920"/>
            <a:ext cx="5257800" cy="2373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 rot="20324400">
            <a:off x="990720" y="4190760"/>
            <a:ext cx="1439640" cy="1135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 rot="2104800">
            <a:off x="7086600" y="4343400"/>
            <a:ext cx="1371600" cy="10810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657600" y="2514600"/>
            <a:ext cx="2158920" cy="2908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 rot="1217400">
            <a:off x="6705360" y="3809880"/>
            <a:ext cx="1616040" cy="1949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2819520" y="457200"/>
            <a:ext cx="39621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allowee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 rot="20344200">
            <a:off x="304560" y="1752480"/>
            <a:ext cx="2971800" cy="18907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666880" y="2057400"/>
            <a:ext cx="4572000" cy="3416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3124080" y="533520"/>
            <a:ext cx="3429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eekend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5" name=""/>
          <p:cNvSpPr/>
          <p:nvPr/>
        </p:nvSpPr>
        <p:spPr>
          <a:xfrm rot="19097400">
            <a:off x="783360" y="2585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2107200">
            <a:off x="837000" y="35049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Chu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20260800">
            <a:off x="914760" y="4495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y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00:07:33Z</dcterms:created>
  <dc:creator> </dc:creator>
  <dc:description/>
  <dc:language>en-US</dc:language>
  <cp:lastModifiedBy>drutkowski</cp:lastModifiedBy>
  <dcterms:modified xsi:type="dcterms:W3CDTF">2007-12-03T22:08:41Z</dcterms:modified>
  <cp:revision>7</cp:revision>
  <dc:subject/>
  <dc:title>Slide 1</dc:title>
</cp:coreProperties>
</file>